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8444-8043-4121-89A3-9F9F3543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E1C-DCB1-4A5D-A454-96735244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10E-ABD9-4EC3-8BFE-2A126781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05F2-670C-45A2-966A-75B16F66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45A3-D0D6-4EED-9D35-2077837F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8968-8C22-4696-8601-BA21D921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EED-DF7E-4DDD-BB6F-C273DE68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004B-C325-42A8-B130-AD69397D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FC4-1352-481D-BD29-D91B6A7C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888-778A-4AE8-AF56-D14276A5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C83-9915-4D85-9E45-F6EACF9A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2D2-D15D-46A6-B084-5B8CE1A1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C472-B915-4F3E-BDC8-67F56FE95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ell The Good New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’s Journey To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 12 Lesson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203-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C13-B518-4DB8-9EFE-039F67AB84BA}" type="slidenum">
              <a:t>1</a:t>
            </a:fld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EC7-410A-4090-B7F1-F9A9F94956E1}" type="slidenum">
              <a:t>2</a:t>
            </a:fld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ipwre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s 27:1-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ews had made accusation against Paul declaring that he ought to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stus, the Roman governor, would have sent him to Jerusalem to be judged, but Paul appealed to Cae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stus then agrees to send Paul to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and other prisoners were given into the custody of a centurion named Jul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6F0E-A4B6-4013-9116-C0C3BE94B475}" type="slidenum">
              <a:t>3</a:t>
            </a:fld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ipwre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s 27:1-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diers and their prisoners boarded a ship from Adramyttium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rah MITT 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et sail north stopping briefly at Si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rip proved difficult because the winds were cont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me to Myra where they boarded a grain ship headed for 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uch difficulty, they were able to sail west by hugging the coas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9AB-62A4-4BD1-96DC-CA53B8E6A075}" type="slidenum">
              <a:t>4</a:t>
            </a:fld>
          </a:p>
        </p:txBody>
      </p:sp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ipwre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s 27:1-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nidus they had to put out to open sea and arrived at a place called Fair Ha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is time it was the middle of October or later, quite late in the season to be s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warns those in charge not to go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nturion agreed with the captain and sailing master to go west a few more miles to a better harbor in which to 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AB8-03F4-41D1-87D1-36A5ADCA8DE6}" type="slidenum">
              <a:t>5</a:t>
            </a:fld>
          </a:p>
        </p:txBody>
      </p:sp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ipwre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s 27:1-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ooner had they set out than a fierce storm arose blowing the ship off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auda they secured the lifeboat, wrapped the ship with cables, lowered the sails and let the ship be driven by the st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now in grave danger of being driven onto the sh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eeks went by with them seeing neither sun nor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C53-5417-4285-B323-5FD87A78CCC2}" type="slidenum">
              <a:t>6</a:t>
            </a:fld>
          </a:p>
        </p:txBody>
      </p:sp>
    </p:spTree>
  </p:cSld>
  <p:transition>
    <p:comb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ipwre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s 27:1-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day after Cauda they threw cargo overboard, the second day the ship’s tackle was thrown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ope seemed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n an angel appeared to Paul and told him the ship would be lost but no one would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reassured the men urging them to take hear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F71-30E4-4D78-A756-B47368DC00BB}" type="slidenum">
              <a:t>7</a:t>
            </a:fld>
          </a:p>
        </p:txBody>
      </p:sp>
    </p:spTree>
  </p:cSld>
  <p:transition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ipwre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s 27:1-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fourteenth night of the storm the sailors sensed they were drawing nea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ilors sought to escape from the ship by lifeboat, but Paul told the centurion and the soldiers unless these remain in the ship you cannot be s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diers cut away the ropes from the lifeboat dropping it into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urged them all to take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5A1-1506-40BC-8B1B-94B63877F30F}" type="slidenum">
              <a:t>8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ipwre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s 27:1-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eat was thrown over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ip hit a reef and began to break 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diers wanted to kill the prisoners but the centurion, intent on saving Paul, ref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276 people on boar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ched shore by swimming or floating on deb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419-FE95-43EA-9DD5-4586F5873553}" type="slidenum">
              <a:t>9</a:t>
            </a:fld>
          </a:p>
        </p:txBody>
      </p:sp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06:03:39Z</dcterms:created>
  <dc:creator>billy lauderdale</dc:creator>
  <dc:description/>
  <dc:language>en-US</dc:language>
  <cp:lastModifiedBy>billy lauderdale</cp:lastModifiedBy>
  <dcterms:modified xsi:type="dcterms:W3CDTF">2006-12-23T06:24:31Z</dcterms:modified>
  <cp:revision>16</cp:revision>
  <dc:subject/>
  <dc:title>Slide 1</dc:title>
</cp:coreProperties>
</file>